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F13-6EE3-4BA0-A3FC-19B8BE28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FCB7-C76F-4C52-BFBE-01493255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CF57-7A35-4FCF-9C31-D3C703F0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082F-DA36-4A4A-9562-75227F6C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761E-4128-457F-B9F8-89AC267E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2078-C7B2-453E-A782-77AA5151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C53D-708E-4C30-8322-BC899F0C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5EC5-B6E1-43AF-BBE0-6BE6130D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A03C-FDD8-4E28-88E6-B5AD5A56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6EE3-228C-4B5C-AA37-42C63F2C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6960-8557-4487-9D10-9A1010F3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9D54-8726-40F6-B28A-5CC25798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527E-9B3B-47BD-871B-6D23B929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DB98-300E-4D0E-97DC-FE3C0E1D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DD94-E2C5-4901-B63B-2AC65D2A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7CA2-78FF-44CB-B7ED-BBF3DD7C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3BF9-1973-40BE-8740-187B42D3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7BD-9051-488C-8342-693ABDA7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240-DA67-43EA-9C7A-2957CBFD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22A2-F76A-4D57-9D37-1D87E797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9600-5DC1-43B7-B84A-73739E72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B6CB-6A8B-41B8-901C-E2BB4571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72E8-8C3C-4AD1-B726-FB74F715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2F14-5CFC-4591-8C40-6DB8A808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824A-D35B-4D0E-A11F-E73293A31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A04E-7015-4AD5-AE47-8AAA0C671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icrosoft Word for the Mac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cia Sharkey &amp; Nick Koz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.A.S.E. Assistive Techno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00"/>
                </a:solidFill>
                <a:latin typeface="Arial"/>
              </a:rPr>
              <a:t>AUTO SUMMARIZ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have text to read on your computer like an article from the internet, then you can use AutoSummarize to help pick out the most important inform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ools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ummar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 of Sum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new document will o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riginal document will still be o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28195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00"/>
                </a:solidFill>
                <a:latin typeface="Arial"/>
              </a:rPr>
              <a:t>READABILITY STATISTIC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completing a spelling and/or grammar check, a “Readability” analysis will appea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952880" y="3124080"/>
            <a:ext cx="305280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00"/>
                </a:solidFill>
                <a:latin typeface="Arial"/>
              </a:rPr>
              <a:t>TEXT TO SPEECH (TTS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the View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ool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“Speech” Too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loating palette will 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needs to be high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“Speak Selection” to hear text being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562720" y="1981080"/>
            <a:ext cx="2590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upports for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reating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rag and Drop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nd and Re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ustomizing Tools B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ext to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REATING TABL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“Table”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oll down to “Inse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“T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able size (columns and row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733920" y="3809880"/>
            <a:ext cx="20556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RAG AND DROP TEX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ext to be m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arrow over select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mouse click, hold and drag to desired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IND AND REPLA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“Edit”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prom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RE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prom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168360" cy="15336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334120" y="4572000"/>
            <a:ext cx="3200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USTOMIZING TOOLBA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want to customize your toolbar to include features that you often use or feel are important to have immediate access to, you c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“View” tab and scroll down to Toolb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“Customize Toolbars/Menus”  all the way at the bottom, follow prompts to create a customized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851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EXT TO SPEECH (TTS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the View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oolb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“Speech”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loating palette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 needs to be highligh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“Speak Selection” to hear text being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It is important to note that the TTS feature can be used to support both reading and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562720" y="1981080"/>
            <a:ext cx="2590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upports for 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Study Skil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Highlight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upports for </a:t>
            </a:r>
            <a:r>
              <a:rPr b="0" lang="en-US" sz="4400" spc="-1" strike="noStrike">
                <a:solidFill>
                  <a:srgbClr val="9a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Arial"/>
              </a:rPr>
              <a:t>Color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Arial"/>
              </a:rPr>
              <a:t>Font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Arial"/>
              </a:rPr>
              <a:t>Tex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Arial"/>
              </a:rPr>
              <a:t>Copy Text into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Arial"/>
              </a:rPr>
              <a:t>Look Up/Trans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Arial"/>
              </a:rPr>
              <a:t>Reading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Arial"/>
              </a:rPr>
              <a:t>Auto Summar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Arial"/>
              </a:rPr>
              <a:t>Text to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HIGHLIGHT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“View”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oll down to Toolb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“Formatt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04920" y="3886200"/>
            <a:ext cx="8572320" cy="558720"/>
          </a:xfrm>
          <a:prstGeom prst="rect">
            <a:avLst/>
          </a:prstGeom>
          <a:ln w="0">
            <a:noFill/>
          </a:ln>
        </p:spPr>
      </p:pic>
      <p:cxnSp>
        <p:nvCxnSpPr>
          <p:cNvPr id="260" name=""/>
          <p:cNvCxnSpPr/>
          <p:nvPr/>
        </p:nvCxnSpPr>
        <p:spPr>
          <a:xfrm flipV="1">
            <a:off x="6172200" y="4342680"/>
            <a:ext cx="2013840" cy="1639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00"/>
                </a:solidFill>
                <a:latin typeface="Arial"/>
              </a:rPr>
              <a:t>COLOR BACKGROUND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“Format ta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udith Sweeney reference regarding color backgrounds for reading suppor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Judith Sweeney handou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and Technology:  Using Color On and Off the Computer with Students with Disabilit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00"/>
                </a:solidFill>
                <a:latin typeface="Arial"/>
              </a:rPr>
              <a:t>FONT C</a:t>
            </a:r>
            <a:r>
              <a:rPr b="0" lang="en-US" sz="4400" spc="-1" strike="noStrike">
                <a:solidFill>
                  <a:srgbClr val="9a0000"/>
                </a:solidFill>
                <a:latin typeface="ヒラギノ角ゴ ProN W3"/>
              </a:rPr>
              <a:t>OLOR</a:t>
            </a:r>
            <a:r>
              <a:rPr b="0" lang="en-US" sz="4400" spc="-1" strike="noStrike">
                <a:solidFill>
                  <a:srgbClr val="003366"/>
                </a:solidFill>
                <a:latin typeface="ヒラギノ角ゴ ProN W3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“Format Ta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F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desired Font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00"/>
                </a:solidFill>
                <a:latin typeface="Arial"/>
              </a:rPr>
              <a:t>TEXT SIZ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“Format ta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F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Font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Fon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00"/>
                </a:solidFill>
                <a:latin typeface="Arial"/>
              </a:rPr>
              <a:t>COPY TEXT into WORD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desired article o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“printable” version of the text (this is applicable if you are printing from the inter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py 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xt by press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Command A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go to “Edit Tab” and Select ALL or highlight desired text and cop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Command C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go to “Edit Tab” and Copy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paste text into word documen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Command V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go to “Edit Tab” and Past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00"/>
                </a:solidFill>
                <a:latin typeface="Arial"/>
              </a:rPr>
              <a:t>LOOK UP/TRANSLAT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er can look up a definition or translate a wor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ight desired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cursor somewhere within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click the mouse to bring up a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“Look Up” for dictionary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“Translate” to translate a word or highlighted portion of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lose the Research task pane, click on the X in the upper right top of the task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hange </a:t>
            </a:r>
            <a:r>
              <a:rPr b="0" lang="en-US" sz="4400" spc="-1" strike="noStrike">
                <a:solidFill>
                  <a:srgbClr val="9a0000"/>
                </a:solidFill>
                <a:latin typeface="Arial"/>
              </a:rPr>
              <a:t>READING VIEW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the “view” that the text is presented in turn your attention to the lower left hand corner of the scre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options are availab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Lay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952880" y="2971800"/>
            <a:ext cx="21718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02:12:39Z</dcterms:created>
  <dc:creator>CCSD89</dc:creator>
  <dc:description/>
  <dc:language>en-US</dc:language>
  <cp:lastModifiedBy>CCSD89</cp:lastModifiedBy>
  <dcterms:modified xsi:type="dcterms:W3CDTF">2011-01-12T04:15:52Z</dcterms:modified>
  <cp:revision>1</cp:revision>
  <dc:subject/>
  <dc:title>Microsoft Word for the Mac</dc:title>
</cp:coreProperties>
</file>